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544-49EB-4A3D-BF15-CEC4E685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 Years’ War 1337-1453  England vs.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King Edward III claimed the right to the French thr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– territory and control of Fla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ly English success (longbow and military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aids and sie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 French victories – impact of Joan of A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ses – rats/fleas spread by trade routes, close proximity, and lack of san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s – flagellants, leeches, expel J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s – huge population reductions, labor shortages, mig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eval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– transformation into largest political entity and secular organization, papal power vs. monarc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ment V moves papacy to Avignon – Babylonian Captivity, major impact on Roman econo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Schism – two popes elected (French and Italian) two popes claim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popes dumped and third pope sel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iliar Movement – limits papal authority and restores Pope to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lar movement that demonstrated man’s independence from reli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fects the middle class and aristocracy only – no impact on lower cl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nacle of the movement is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 = international language of Eu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government restri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e main ide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methods of natural science applicable to all aspects of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scientific method capable of discovering the laws of human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possibility of societal and individual progress and improvement for humans – optim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keptics – someone who habitually doubts accepted belie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le – attacked superstition, religious dogma, and tradi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osophes – bringing knowledge to Europe – educate the middle cl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esquieu – satire of the customs and practices of Europe, advocated a balance of power within gover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ire – criticized the Church as oppressive, seek individual peace, practice tole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e – attacked divine right,  social contract was a breakable contract if necessary to protect natural r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 – economics based on natural law.  Laissez-faire policy is the best polic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ons – meetings of intellectuals to discuss philosophy, politics, and current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ghtened monarc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 educated monarch would be a better monarc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erine the Great of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ghtened absolu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oduced reforms in legal code and religious tole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igious and academic 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ed legal code and improved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eph II of Aust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lished serf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igious tolerance to Jews and Protes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ouraged by Enlightenme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E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Cler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No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All other (All tax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 XIV wars, Versailles, American Revolution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xes without approval of Estates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Stage –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Estate creates National Assemb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sant ri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ation of the Rights of 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of clergy rights and prope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on of constitutional monarc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ation of Pillnitz from Austria fuels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e War on 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 impriso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ublic cr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obins (all) split into Girondists and Mou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 led by Robespierre/Danton executes Roy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tee of Public Safety c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s Reign of T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s moderates to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5 member Directory to rule w/ help fro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coup, Napoleon initiates several constitutional changes ultimately ending with him as Empe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ordat – results in the state having control over the Church in France (no return of lands, bishop sele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intended to treat everyone equally under the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lish serf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gious tol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reforms bureaucracy to strengthen and stabilize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Army defeats coalition forms Grand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, Holland, Spain, German states (except Prussia/Austria), Warsaw, Italy and Swiss Re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es French law and practices into conquered terri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’t defeat England – plan to cut off British trade on the Conti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economic issues for Grand Empire and fuels nation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 Campaign with 600,000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s retreat and destr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etreat with 40,000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, Austria, Prussia, Russia align to liberate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 abdicates to Elb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 XVI rules until Napoleon retur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 raises an army and loses at Waterloo (100 da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nna conference consisting of Austria, Russia, Prussia,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e ‘rightful’ rulers of Europe to their th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nd maintain a balance of power to guarantee pe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surrounded by strong states to prevent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remains consolidated at 39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uple Alliance is form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pread of liberalism and revolutionary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territorial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Prevents general war in Europe for almost 1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important chan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 management – crop/field rotations, dikes and irrigation, enclosure mov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er yield, increased livestock and byproducts (meat, mil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ed die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er lifesp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ter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numbers of landless labor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lation explo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id increase due to declining death 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of the plague, smallpo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ed 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ased food pro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lation pressure creates cottage 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ttage 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d on ‘putting out’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efficient, low wages, unreliable qu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s in Britain (textil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undant natural resources, workers, expanding market, free market and investment capi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ovations – spinning jenny, waterframe, steam engines, coal for smelting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ased quantity / variety of consumer go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ce red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opportun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anded w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er standard of l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ansion of urban areas / and condi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rth of un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cused on the rights of individuals and limits on the powers of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ple’s feeling of unity against a ruler or outside op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ed by religion, geography, culture, and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pes the course of European history for the next cen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istic and literary movement focused on a new outlook on life, deep appreciation for 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nse passion and emotion in art, music, and liter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orm Bill of 1832 – expands suffrage, creates House of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tists – movement demands universal suff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n Laws – tariffs on imported grain repealed in 18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s to a constitutional monarchy after Napoleon until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Con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a confederation of 39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lsbad decrees – censor and control student and other nationalist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my officers stage Decembrist Revolt for a liberal, constitution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 by Nicholas I – limits freedoms and punishes libe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ists revolt, create national worksh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ne Days – 10k killed, moderates and middle class reg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Republic created with Napoleon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nna and Hungary socialist revo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erals wanted unified Germa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derick William IV new empe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 / Russia say no to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volutions failed becaus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ded by social and economic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unified plans for new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mean W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 vs. Britain &amp; France over holy sites in the Ott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 humiliated b/c outdated technology, strategy, and transpor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ivates Russia to catch up with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of 1848 Italy was composed of Sardinia, Lombardy-Venetia, the Papal States, and Nap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Victor Emmanuel II (Sardinia) ruled as a constitutional mon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vour – (VEII Prime Minister) was a nationalist, reformer, who sought a unified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goal – force Austria out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 agreement with Napoleon III to back Sardinia against Aust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vour provokes Austria into war – France withdra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sts Garibaldi to invade Sicily and Nap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conquest of Venetia and Papal States Italy becomes un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ctor Emmanuel II – King of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quences – North / South rivalry &amp; increased separation of Church and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tria and Prussia dominate German States – Prussia enjoys superiority due to influence in Zollverein and level of industria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William I appoints Bismarck as chancel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 Germany by blood and iron – Prussia had power to lead struggle for un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s government and enlarged the ar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ds Prussia and Austria into war with Denmark to reclaim terri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disputes over territory to initiate Austr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tr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 weeks long – Austria loses – gets lenient terms from Bismarck and gets out of German Confe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ute over succession to the Spanish thr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ads Napoleon III to declare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ussia wins – takes Alsace &amp; Lorraine – NIII exi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1 – Germany 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iser William I rules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 publishes Kulturkampf as attack on the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 worked to gain worker loyalty and suppress Socialist 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ystal Palace 1851 – symbolized unlimited potential of industri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raeli – PM expands electo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dstone – PM institutes secret ballot and free public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iod shows rise of the two-party system and decline of the power of the monarc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poleon III – leads Second Republic through public works programs and economic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ngths – domestic and political reforms, Weakness – foreign poli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ses F-P War and is ex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Re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is Commune tries to separate – National Assembly has to suppress (20k dea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eyfus affair – creates division between Church/Old Establishment vs. Republic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ile Zola famous author defends Dreyf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Crimean War – Russia focused on catching up to Eur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s serfd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s zemstvos (local governments) and reforms legal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assinated in 1881 – replaced by Alexander I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 I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s reforms, focuses on political and industrial progr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for markets and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and Naval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ology – “White Man’s burden” &amp; Social Darw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lin Conference 1884-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to eliminate conflicts over Africa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to claim territory – ‘effective occupat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ion of native rule except Liberia and Ethio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e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settlers (Afrikaners) vs. British 1899-19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try to revolt to Western influence (unsuccess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ian Renaissance – out of the Dark Ages and return of the clas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rence, Milan and Venice – Medici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y’s dominant control of banking and trade routes create a wealthy group of pa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ltural rebirth and growth of the arts,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ism – study ideas in Latin and Greek classics (form over substanc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l rounded education – rhetoric, politics, philosophy, poetry, and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ier – Noble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rarch – father of humanism, D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 – new techniques like chiaroscuro (shading to create contrasts between light and dark) and linea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ists – Michelangelo, da Vinci, Rapha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Rena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cus on religious reform as well as humanist ide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 educational focus through invention of printing press (Bi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asmus – merge civic virtue with Christian ideals / viewed as a heretic for anticlerical views and satire of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gious superst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– Utopia / a critique on modern society – executed for not taking Oath to the 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es – primary goal = gold and sp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goal = faster trade routes and new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– Columbus / Magel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s – disease, slavery, rise of Spain, global economy, silver glut impact on economy (inf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th toll from the plague shakes faith in the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ony – selling of church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ralism – multiple church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ulgences – forgiveness for s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of the priests – uneducated, illiterate, and imm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lth of the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monk attacks the sale of indulgences (95 theses), the sacraments, and route to sal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ommunicated and exi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ks refuge from Frederick the El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theranism spreads through German kingdoms, Denmark, Norway, Sweden, and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e of Augsburg allows German princes to choose religion for their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peasants misinterpret Luther’s writings revolt – Luther condemned their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s with Luther on most points – biggest difference is salvation through predest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 uses Geneva as a model for Christia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stitutes a school system, new industries, “Protestant work ethic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bapt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ll church members eq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dult bapt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otal separation of church a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ed as dangerous rad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Re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ry VIII separates from the Church over the issue of div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 of Supremacy makes Henry VIII head of the Church of England (Protest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hurch lands confiscated, Catholics become min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x of Prohibited books, Inqui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cil of Trent – affirms doctrine, sacraments, and rit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orms practices = simony, indulgences, plur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 little, too l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ordat of Bologna – created strong ties to Rome and the P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 Calvinists (Huguenot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vil war – Henry IV (Calvinist) converts to save France / issues Edict of Nantes to allow Huguenots the righ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returns England to Catholic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zabeth I switches 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mestic – moderate version of Protestantis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tional – supports Protestant revo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 II (Habsburg) wanted to exert more control and strengthen Catholic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into Calvinist North vs. Catholic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 supports Nor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in supports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ada destroy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n from the 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ty Years’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– Peace of Augsburg violations / international ten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phras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hemian – Bohemia revolts to become Calvin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derick the Elector lo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sh – Denmark invades Germany to aid Protes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sh l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vinism outlawed and Lutherans ordered to return Catholic prope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dish – Swedish king initially successf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se – Southern Germany remains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-Swedish – draw between FS and Sp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ace of Westpha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zerland, Holland indepen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RE weakened, Habsburgs weake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 devast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of religious wars in Eu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 Church lost political and economic infl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agonistic element in European politics between P and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 of reli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istic movements because of increased separation of church and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uction in status of church over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s take the global lead in exploration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 to ‘civilize’ the he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 the middle man and trade directly with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e, fortune, and titles of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takes the early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goal was the establishment of trade routes and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hips, sailors – early slav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goal was to explore the world to find better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istadores – wealth, fame,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ce over Incas and Azt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the wealth of Spain /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Price Revolution – inflation from influx of gold and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native civi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laved native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nry IV – begins the process of reducing the power of the no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lly – brings financial stability and economic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XIII – breaks the power of the no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chelieu – policy of total subordination to the monarc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the royal council, starts system of intend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ndwork for centralized bureauc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XIV – Sun King – model for the absolute mon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ly exposure to Fronde, rebellions, create sense of paranoia and need to tighten royal auth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bert helps strengthen economy = gold in the cof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lements mercantilistic poli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vernment control of industry and tra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roads and can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revokes Edict of Nantes – ends Protestant separat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creates a professional army to increase territory (at war for 33 of 54 yea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establishes control over all aspects of the 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Versailles (keep your friends close and your enemies closer!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ron to the arts – Classic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ssia – Peter the Gre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 goal is to westernize 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eds to strengthen army and create a navy – western style with compulsory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empt to install a mercantilistic economy in Russia –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St. Petersbu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ample of modern baroque city – copy of Versail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ish Absolut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y VIII – strengthened monarchy and reduced power of Catholic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zabeth I – great diplomat, strong l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I – cousin of EI, problems with Parliament over taxes and control of reven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 – son of JI, continues problems with Parliament over money, dismisses Parliament (11 yea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coastal defense taxes as reven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es to force religious changes on the Scots, revolts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 Parliament (Short Parliament) to raise army (refused) and dismis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 Parliament again (Long Parliament) to get money to pay the Scots to leave N.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issues Grand Remonstrance (list of grievanc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flees London to gather troops – start of English Civil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liver Cromwell and model army of Puritans supports Parliament, captures Charles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 – execu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mwell establishes military dictato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I – returns from ex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restores Church of England increases religious tensions between P and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I signs a secret treaty to reduce restrictions on Cathol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tries to block James II ascension (Cathol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and Mary invade – James flees (Glorious Rev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throne in exchange for Bill of Rights and foundation for constitutional monarc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V – first king of united Spain and H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world wealth funds Golden Age of Spain’s art 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s empire between Philip and Ferdin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with Netherlands (loss of Armad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ty Years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of Spanish Succ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ural philosophy – concept of a geocentric universe (Earth at the cen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sed of four basic elements, ten spheres, heaven (finite univer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ory supported and expanded by theolog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ernicus – posthumously publishes theories on heliocentric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, Luther, etc. denounce the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s importance of the Earth and contradicts the B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pler – develops three natural laws that explain orbit, speed, and rotation of the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ilei – develops theories on laws of motion, composition of planets and heavenly 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ed by the Church as a heretic – trial is an example of the conflict between Science and Reli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ton – combines theories of previous into a system of mathematical laws – universal grav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on – empirical method of observation and inductive reasoning (learn why something happe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artes – use logic and reason to understand things and use scientific laws to prove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bination of Bacon / Descartes – modern Scientific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C43F-6013-49EA-B9C1-7448CAF5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5E86-75F4-4852-9C19-EC01CA2C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DB5D-BCE7-489E-BBB5-4F645371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E88E-6396-439A-A036-80AEFC4C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FEC-BEA1-4D53-9562-1D67BEF3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0EE2-6C83-4B1D-ACEE-7768E47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7B43-885D-4142-87B9-F2248C6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1BD-6934-4547-82B8-9C5E30C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93D2-1362-4806-B930-EB781EE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7AF-7612-4A0B-8684-5479DBB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F2A2-3D24-48F2-9F1C-EF9FD81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CA93-4FC3-45CB-AD11-48602184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F52F-60EC-4AB8-9C9C-CBA8163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BD22-6DA7-4E84-AD0B-324AFD2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281-7FDB-462E-8CF6-0107A78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FB9-7256-42F4-9644-F6D0E896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20B-BE94-4B8B-B23E-F7CF6A0E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EA1D-7BCB-4A61-BE54-3D6C04D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13E6-6412-4FB2-B2AC-85F212A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870C-9131-4043-88CA-5CF25DE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4F8-EC92-4E12-8D61-16DB4D9B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2CD3-0508-42C4-BAB7-8B967E68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624F-85EA-439B-9801-01CD086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701A-4DE4-4756-9426-AC4A16F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68A7-5ECC-4F1F-ADDE-1EDC57693F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3C93-2C9A-40E3-A2A3-B9F6B982E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te Middle 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ndred Years’ War (and then so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ck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eval 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bylonian Cap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Sch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iliar Mo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lighte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riage of Reason and Sc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main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eptics and Philosop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 of sal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lightened rul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lass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xation w/o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(Reign of Terr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(Reactiona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pole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99 Coup d’etat forms cons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1 Concor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4 Napoleonic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7 Grand Empi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al system instit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2 Russ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4 Abdicates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5 Waterloo and the end of Napole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gress of Vien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terni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icultural Improv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explo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toindustria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es of the 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the 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deologies / Age of Metterni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er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mantic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man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848 Revolutions / Crimean Wa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mean War 1854-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fic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848-1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lin Con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er W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xer Rebell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naissance and Discove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alian Renaiss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, Why, &amp; W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m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&amp; W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 on art/arti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thern Renaiss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gious fl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naissance and Discovery (continued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yages of Dis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gel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of the 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bapt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ish Re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er Re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gious Wa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ty Years’ W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the Re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 of Expan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, Gold, and Gl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al and Sp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solut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ry IV &amp; Su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is XIII &amp; Richeli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is XIV &amp; Colb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ter the Gr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glish Constitutio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of the Tudor’s and Absol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ry VIII &amp; Elizabeth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bad James’ and two bad Charles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ish Civil War &amp; Oliver Crom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R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and Fall of S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 of Natural Philoso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jor Contribu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erni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p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il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on / Descar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1:40:34Z</dcterms:created>
  <dc:creator> </dc:creator>
  <dc:description/>
  <dc:language>en-US</dc:language>
  <cp:lastModifiedBy>School District U46</cp:lastModifiedBy>
  <dcterms:modified xsi:type="dcterms:W3CDTF">2006-04-19T21:11:07Z</dcterms:modified>
  <cp:revision>33</cp:revision>
  <dc:subject/>
  <dc:title>Late Middle Ages</dc:title>
</cp:coreProperties>
</file>